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32600" cy="93916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B9660-11AD-4B56-96DF-9479894F5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5B6CA-92AF-4801-9675-ABC7B75FD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B1195-C0F8-42BD-8BB1-50E38B861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9CF36-89C2-4426-AC37-8CFAE88B5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9ACC6-8A6F-4B55-8B2F-B3C9B32A2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CB165-2531-4FB2-B536-52A74D33D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F644D-2564-4C79-A3D6-BEB13D006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5E30B-35FD-41F4-80D9-228DEAB54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C9E20-F16A-4D2F-847F-10E1D5FA7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23313-3D55-48DC-A5D0-CCD6F33D4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317C9-4AD2-4D82-803A-B45B9C9B7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BB618-BCE8-4119-B2C7-E3A9C6C38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56AED-BB4A-4F95-801C-83F68C424B76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1760" y="990360"/>
            <a:ext cx="784836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Prezentace k disertačním tezím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/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523880" y="4800600"/>
            <a:ext cx="6324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3333cc"/>
                </a:solidFill>
                <a:latin typeface="Times New Roman"/>
              </a:rPr>
              <a:t>Roman LUKÁŠ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Pravidlově synchronizovaný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85800" y="1219320"/>
            <a:ext cx="7772400" cy="25905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85800" y="1143000"/>
            <a:ext cx="8001000" cy="30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Defini</a:t>
            </a:r>
            <a:r>
              <a:rPr b="1" lang="cs-CZ" sz="2900" spc="-1" strike="noStrike">
                <a:solidFill>
                  <a:srgbClr val="000000"/>
                </a:solidFill>
                <a:latin typeface="Times New Roman"/>
              </a:rPr>
              <a:t>ce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n-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multigenerat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ivní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pravidlově-synchronizovaný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grama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tický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 syst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é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n-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MG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je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– tice </a:t>
            </a:r>
            <a:r>
              <a:rPr b="1" lang="cs-CZ" sz="2900" spc="-1" strike="noStrike">
                <a:solidFill>
                  <a:srgbClr val="ff0000"/>
                </a:solidFill>
                <a:latin typeface="Symbol"/>
                <a:ea typeface="Symbol"/>
              </a:rPr>
              <a:t></a:t>
            </a:r>
            <a:r>
              <a:rPr b="1" lang="en-US" sz="2900" spc="-1" strike="noStrike">
                <a:solidFill>
                  <a:srgbClr val="ff0000"/>
                </a:solidFill>
                <a:latin typeface="Times New Roman"/>
              </a:rPr>
              <a:t> = (</a:t>
            </a:r>
            <a:r>
              <a:rPr b="1" i="1" lang="en-US" sz="29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1" lang="en-US" sz="29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29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1" i="1" lang="en-US" sz="29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1" lang="en-US" sz="29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2900" spc="-1" strike="noStrike">
                <a:solidFill>
                  <a:srgbClr val="ff0000"/>
                </a:solidFill>
                <a:latin typeface="Times New Roman"/>
              </a:rPr>
              <a:t>, … , </a:t>
            </a:r>
            <a:r>
              <a:rPr b="1" i="1" lang="en-US" sz="29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1" i="1" lang="en-US" sz="29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29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1" i="1" lang="en-US" sz="29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9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kde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9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9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9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9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9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je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CFG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pro všechna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= 1 …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je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konečná množina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-t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ic tvaru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…,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9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kde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9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9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pro všechna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= 1 …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85800" y="3886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09480" y="380988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09480" y="4299120"/>
            <a:ext cx="8305920" cy="28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Symbol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{(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})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wher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= ({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   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b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= ({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5943600" y="5257800"/>
            <a:ext cx="2057400" cy="977760"/>
            <a:chOff x="5943600" y="5257800"/>
            <a:chExt cx="2057400" cy="977760"/>
          </a:xfrm>
        </p:grpSpPr>
        <p:sp>
          <p:nvSpPr>
            <p:cNvPr id="239" name=""/>
            <p:cNvSpPr/>
            <p:nvPr/>
          </p:nvSpPr>
          <p:spPr>
            <a:xfrm>
              <a:off x="7543800" y="525780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5943600" y="525780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1" name=""/>
            <p:cNvGrpSpPr/>
            <p:nvPr/>
          </p:nvGrpSpPr>
          <p:grpSpPr>
            <a:xfrm>
              <a:off x="6324120" y="5714640"/>
              <a:ext cx="1296000" cy="520920"/>
              <a:chOff x="6324120" y="5714640"/>
              <a:chExt cx="1296000" cy="520920"/>
            </a:xfrm>
          </p:grpSpPr>
          <p:sp>
            <p:nvSpPr>
              <p:cNvPr id="242" name=""/>
              <p:cNvSpPr/>
              <p:nvPr/>
            </p:nvSpPr>
            <p:spPr>
              <a:xfrm>
                <a:off x="6553080" y="5715000"/>
                <a:ext cx="838440" cy="52056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OK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flipH="1" flipV="1">
                <a:off x="6324120" y="571464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flipV="1">
                <a:off x="7391520" y="571464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45" name=""/>
          <p:cNvGrpSpPr/>
          <p:nvPr/>
        </p:nvGrpSpPr>
        <p:grpSpPr>
          <a:xfrm>
            <a:off x="5943600" y="4114800"/>
            <a:ext cx="2057400" cy="977760"/>
            <a:chOff x="5943600" y="4114800"/>
            <a:chExt cx="2057400" cy="977760"/>
          </a:xfrm>
        </p:grpSpPr>
        <p:sp>
          <p:nvSpPr>
            <p:cNvPr id="246" name=""/>
            <p:cNvSpPr/>
            <p:nvPr/>
          </p:nvSpPr>
          <p:spPr>
            <a:xfrm>
              <a:off x="7543800" y="411480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943600" y="411480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8" name=""/>
            <p:cNvGrpSpPr/>
            <p:nvPr/>
          </p:nvGrpSpPr>
          <p:grpSpPr>
            <a:xfrm>
              <a:off x="6324120" y="4571640"/>
              <a:ext cx="1296000" cy="520920"/>
              <a:chOff x="6324120" y="4571640"/>
              <a:chExt cx="1296000" cy="520920"/>
            </a:xfrm>
          </p:grpSpPr>
          <p:sp>
            <p:nvSpPr>
              <p:cNvPr id="249" name=""/>
              <p:cNvSpPr/>
              <p:nvPr/>
            </p:nvSpPr>
            <p:spPr>
              <a:xfrm>
                <a:off x="6553080" y="4572000"/>
                <a:ext cx="838440" cy="52056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OK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flipH="1" flipV="1">
                <a:off x="6324120" y="457164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flipV="1">
                <a:off x="7391520" y="457164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52" name=""/>
          <p:cNvGrpSpPr/>
          <p:nvPr/>
        </p:nvGrpSpPr>
        <p:grpSpPr>
          <a:xfrm>
            <a:off x="5943600" y="1828800"/>
            <a:ext cx="2057400" cy="977760"/>
            <a:chOff x="5943600" y="1828800"/>
            <a:chExt cx="2057400" cy="977760"/>
          </a:xfrm>
        </p:grpSpPr>
        <p:sp>
          <p:nvSpPr>
            <p:cNvPr id="253" name=""/>
            <p:cNvSpPr/>
            <p:nvPr/>
          </p:nvSpPr>
          <p:spPr>
            <a:xfrm>
              <a:off x="7543800" y="182880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5943600" y="182880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5" name=""/>
            <p:cNvGrpSpPr/>
            <p:nvPr/>
          </p:nvGrpSpPr>
          <p:grpSpPr>
            <a:xfrm>
              <a:off x="6324120" y="2285640"/>
              <a:ext cx="1296000" cy="520920"/>
              <a:chOff x="6324120" y="2285640"/>
              <a:chExt cx="1296000" cy="520920"/>
            </a:xfrm>
          </p:grpSpPr>
          <p:sp>
            <p:nvSpPr>
              <p:cNvPr id="256" name=""/>
              <p:cNvSpPr/>
              <p:nvPr/>
            </p:nvSpPr>
            <p:spPr>
              <a:xfrm>
                <a:off x="6553080" y="2286000"/>
                <a:ext cx="838440" cy="52056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OK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flipH="1" flipV="1">
                <a:off x="6324120" y="228564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flipV="1">
                <a:off x="7391520" y="228564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59" name=""/>
          <p:cNvGrpSpPr/>
          <p:nvPr/>
        </p:nvGrpSpPr>
        <p:grpSpPr>
          <a:xfrm>
            <a:off x="5943600" y="2971800"/>
            <a:ext cx="2057400" cy="977760"/>
            <a:chOff x="5943600" y="2971800"/>
            <a:chExt cx="2057400" cy="977760"/>
          </a:xfrm>
        </p:grpSpPr>
        <p:sp>
          <p:nvSpPr>
            <p:cNvPr id="260" name=""/>
            <p:cNvSpPr/>
            <p:nvPr/>
          </p:nvSpPr>
          <p:spPr>
            <a:xfrm>
              <a:off x="5943600" y="297180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543800" y="297180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2" name=""/>
            <p:cNvGrpSpPr/>
            <p:nvPr/>
          </p:nvGrpSpPr>
          <p:grpSpPr>
            <a:xfrm>
              <a:off x="6324120" y="3428640"/>
              <a:ext cx="1296000" cy="520920"/>
              <a:chOff x="6324120" y="3428640"/>
              <a:chExt cx="1296000" cy="520920"/>
            </a:xfrm>
          </p:grpSpPr>
          <p:sp>
            <p:nvSpPr>
              <p:cNvPr id="263" name=""/>
              <p:cNvSpPr/>
              <p:nvPr/>
            </p:nvSpPr>
            <p:spPr>
              <a:xfrm>
                <a:off x="6553080" y="3429000"/>
                <a:ext cx="838440" cy="52056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OK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flipH="1" flipV="1">
                <a:off x="6324120" y="342864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flipV="1">
                <a:off x="7391520" y="342864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6" name=""/>
          <p:cNvSpPr/>
          <p:nvPr/>
        </p:nvSpPr>
        <p:spPr>
          <a:xfrm>
            <a:off x="685800" y="5715000"/>
            <a:ext cx="419112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85800" y="3809880"/>
            <a:ext cx="4191120" cy="18288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85800" y="1828800"/>
            <a:ext cx="4191120" cy="19051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5800" y="1219320"/>
            <a:ext cx="4191120" cy="5331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4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GR: Example 1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85800" y="1143000"/>
            <a:ext cx="4419720" cy="56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(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562720" y="1219320"/>
            <a:ext cx="2895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      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34120" y="2362320"/>
            <a:ext cx="36576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          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105520" y="3505320"/>
            <a:ext cx="38098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a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             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876920" y="4648320"/>
            <a:ext cx="39621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ab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              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5181480" y="5791320"/>
            <a:ext cx="35053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abbcc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           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d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7" name=""/>
          <p:cNvGrpSpPr/>
          <p:nvPr/>
        </p:nvGrpSpPr>
        <p:grpSpPr>
          <a:xfrm>
            <a:off x="5560920" y="5257800"/>
            <a:ext cx="2928600" cy="609480"/>
            <a:chOff x="5560920" y="5257800"/>
            <a:chExt cx="2928600" cy="609480"/>
          </a:xfrm>
        </p:grpSpPr>
        <p:sp>
          <p:nvSpPr>
            <p:cNvPr id="278" name=""/>
            <p:cNvSpPr/>
            <p:nvPr/>
          </p:nvSpPr>
          <p:spPr>
            <a:xfrm rot="5400000">
              <a:off x="5577480" y="5241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5400000">
              <a:off x="7863480" y="5241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019920" y="525780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7620120" y="525780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2" name=""/>
          <p:cNvGrpSpPr/>
          <p:nvPr/>
        </p:nvGrpSpPr>
        <p:grpSpPr>
          <a:xfrm>
            <a:off x="5560920" y="4114800"/>
            <a:ext cx="2928600" cy="609480"/>
            <a:chOff x="5560920" y="4114800"/>
            <a:chExt cx="2928600" cy="609480"/>
          </a:xfrm>
        </p:grpSpPr>
        <p:sp>
          <p:nvSpPr>
            <p:cNvPr id="283" name=""/>
            <p:cNvSpPr/>
            <p:nvPr/>
          </p:nvSpPr>
          <p:spPr>
            <a:xfrm rot="5400000">
              <a:off x="5577480" y="4098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5400000">
              <a:off x="7863480" y="4098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6019920" y="411480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7620120" y="411480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5560920" y="1828800"/>
            <a:ext cx="2928600" cy="609480"/>
            <a:chOff x="5560920" y="1828800"/>
            <a:chExt cx="2928600" cy="609480"/>
          </a:xfrm>
        </p:grpSpPr>
        <p:sp>
          <p:nvSpPr>
            <p:cNvPr id="288" name=""/>
            <p:cNvSpPr/>
            <p:nvPr/>
          </p:nvSpPr>
          <p:spPr>
            <a:xfrm rot="5400000">
              <a:off x="5577480" y="1812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 rot="5400000">
              <a:off x="7863480" y="1812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019920" y="182880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620120" y="182880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2" name=""/>
          <p:cNvGrpSpPr/>
          <p:nvPr/>
        </p:nvGrpSpPr>
        <p:grpSpPr>
          <a:xfrm>
            <a:off x="5560920" y="2971800"/>
            <a:ext cx="2928600" cy="609480"/>
            <a:chOff x="5560920" y="2971800"/>
            <a:chExt cx="2928600" cy="609480"/>
          </a:xfrm>
        </p:grpSpPr>
        <p:sp>
          <p:nvSpPr>
            <p:cNvPr id="293" name=""/>
            <p:cNvSpPr/>
            <p:nvPr/>
          </p:nvSpPr>
          <p:spPr>
            <a:xfrm rot="5400000">
              <a:off x="5577480" y="2955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 rot="5400000">
              <a:off x="7863480" y="2955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620120" y="297180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6019920" y="297180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4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GR: Example 2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952880" y="1143000"/>
            <a:ext cx="3733920" cy="57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t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-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(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union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}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conc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l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85800" y="5715000"/>
            <a:ext cx="419112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85800" y="3809880"/>
            <a:ext cx="4191120" cy="18288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" y="1828800"/>
            <a:ext cx="4191120" cy="19051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85800" y="1219320"/>
            <a:ext cx="4191120" cy="5331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85800" y="1143000"/>
            <a:ext cx="4419720" cy="56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(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Hlavní výsledk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85800" y="1295280"/>
            <a:ext cx="815328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Každý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-MGN jde převést na ekvivalentní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-MG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Každý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-MGR jde převést na ekvivalentní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-MG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Generativní síla těchto systémů (už 2-MGR, 2-MGN) je rovna síle Turingova stro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Cíle disertační práce, shrnut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85800" y="1219320"/>
            <a:ext cx="7772400" cy="53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1) Prostudování stávajících typů gramatických systémů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2) Zavedení nových gramatických systémů simulující multigenerování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3) Určení generativní síly těchto nových gramatických systémů a vztahu mezi s sebou navzájem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4) Vhodné omezení těchto gramatických systémů, aby byly použitelné v praxi + aplikac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762120" y="5029200"/>
            <a:ext cx="76197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8229600" y="1219320"/>
            <a:ext cx="152280" cy="3733560"/>
          </a:xfrm>
          <a:custGeom>
            <a:avLst/>
            <a:gdLst>
              <a:gd name="textAreaLeft" fmla="*/ 0 w 152280"/>
              <a:gd name="textAreaRight" fmla="*/ 55080 w 152280"/>
              <a:gd name="textAreaTop" fmla="*/ 97200 h 3733560"/>
              <a:gd name="textAreaBottom" fmla="*/ 3636360 h 3733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 rot="5400000">
            <a:off x="7579800" y="3009240"/>
            <a:ext cx="221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Stávající sta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Osnova prezent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1219320"/>
            <a:ext cx="8229600" cy="42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1) Úvod do dané problematiky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Přechod od gramatiky ke gramatickému systému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2) Samotný výzkum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Zavedení 2 typů multigenerativních gramatických systému (MGS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Generativní síla těchto MG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3) Cíle disertační prác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Zavedení gramatických systém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120" y="1066680"/>
            <a:ext cx="4622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ramatika: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 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2286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905120" y="16002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…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…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de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2209680"/>
            <a:ext cx="8001000" cy="20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Gramatický systém: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… ,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kd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en-US" sz="3000" spc="-1" strike="noStrike" baseline="-25000">
                <a:solidFill>
                  <a:srgbClr val="339933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j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bezkontextová gramatik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   pro všechn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1 …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množina „pravidel“ pro „řízení generování“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62120" y="6095880"/>
            <a:ext cx="80769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i="1" lang="cs-CZ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Generovaný multiřetězec v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38080" y="4068720"/>
            <a:ext cx="72392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9933"/>
                </a:solidFill>
                <a:latin typeface="Times New Roman"/>
              </a:rPr>
              <a:t>1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…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de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838080" y="4525920"/>
            <a:ext cx="72392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9933"/>
                </a:solidFill>
                <a:latin typeface="Times New Roman"/>
              </a:rPr>
              <a:t>2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…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de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5516640"/>
            <a:ext cx="72392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en-US" sz="3000" spc="-1" strike="noStrike" baseline="-25000">
                <a:solidFill>
                  <a:srgbClr val="339933"/>
                </a:solidFill>
                <a:latin typeface="Times New Roman"/>
              </a:rPr>
              <a:t>n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en-US" sz="32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…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i="1" lang="en-US" sz="30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de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i="1" lang="en-US" sz="30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cs-CZ" sz="3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705720" y="4114800"/>
            <a:ext cx="152280" cy="1905120"/>
          </a:xfrm>
          <a:custGeom>
            <a:avLst/>
            <a:gdLst>
              <a:gd name="textAreaLeft" fmla="*/ 0 w 152280"/>
              <a:gd name="textAreaRight" fmla="*/ 55080 w 152280"/>
              <a:gd name="textAreaTop" fmla="*/ 49680 h 1905120"/>
              <a:gd name="textAreaBottom" fmla="*/ 1855440 h 1905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58000" y="4572000"/>
            <a:ext cx="2057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Paralelní gener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031840" y="5491080"/>
            <a:ext cx="330480" cy="254160"/>
          </a:xfrm>
          <a:custGeom>
            <a:avLst/>
            <a:gdLst/>
            <a:ahLst/>
            <a:rect l="l" t="t" r="r" b="b"/>
            <a:pathLst>
              <a:path w="208" h="160">
                <a:moveTo>
                  <a:pt x="0" y="160"/>
                </a:moveTo>
                <a:cubicBezTo>
                  <a:pt x="7" y="142"/>
                  <a:pt x="5" y="75"/>
                  <a:pt x="40" y="48"/>
                </a:cubicBezTo>
                <a:cubicBezTo>
                  <a:pt x="75" y="21"/>
                  <a:pt x="173" y="10"/>
                  <a:pt x="208" y="0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1905120" y="4982400"/>
            <a:ext cx="457200" cy="228600"/>
          </a:xfrm>
          <a:custGeom>
            <a:avLst/>
            <a:gdLst/>
            <a:ahLst/>
            <a:rect l="l" t="t" r="r" b="b"/>
            <a:pathLst>
              <a:path w="224" h="288">
                <a:moveTo>
                  <a:pt x="32" y="288"/>
                </a:moveTo>
                <a:cubicBezTo>
                  <a:pt x="16" y="216"/>
                  <a:pt x="0" y="144"/>
                  <a:pt x="32" y="96"/>
                </a:cubicBezTo>
                <a:cubicBezTo>
                  <a:pt x="64" y="48"/>
                  <a:pt x="192" y="16"/>
                  <a:pt x="224" y="0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730520" y="4525920"/>
            <a:ext cx="618840" cy="851040"/>
          </a:xfrm>
          <a:custGeom>
            <a:avLst/>
            <a:gdLst/>
            <a:ahLst/>
            <a:rect l="l" t="t" r="r" b="b"/>
            <a:pathLst>
              <a:path w="390" h="536">
                <a:moveTo>
                  <a:pt x="115" y="0"/>
                </a:moveTo>
                <a:cubicBezTo>
                  <a:pt x="104" y="72"/>
                  <a:pt x="0" y="343"/>
                  <a:pt x="46" y="432"/>
                </a:cubicBezTo>
                <a:cubicBezTo>
                  <a:pt x="92" y="521"/>
                  <a:pt x="318" y="514"/>
                  <a:pt x="390" y="536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286000" y="513540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kontroly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rot="5400000">
            <a:off x="860400" y="511164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9933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rot="5400000">
            <a:off x="3832200" y="511164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85800" y="1219320"/>
            <a:ext cx="7772400" cy="17524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9480" y="1219320"/>
            <a:ext cx="8001000" cy="21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Defini</a:t>
            </a:r>
            <a:r>
              <a:rPr b="1" lang="cs-CZ" sz="2900" spc="-1" strike="noStrike">
                <a:solidFill>
                  <a:srgbClr val="000000"/>
                </a:solidFill>
                <a:latin typeface="Times New Roman"/>
              </a:rPr>
              <a:t>ce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Nechť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… ,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9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je GS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jazyk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generovaný pomocí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-L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je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fi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nován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-L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…, 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:(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…, 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cs-CZ" sz="25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cs-CZ" sz="25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…, 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cs-CZ" sz="25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</a:t>
            </a:r>
            <a:r>
              <a:rPr b="0" i="1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cs-CZ" sz="25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pro všechna 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1, …, 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Times New Roman"/>
              </a:rPr>
              <a:t>Generování </a:t>
            </a:r>
            <a:r>
              <a:rPr b="0" i="1" lang="cs-CZ" sz="4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4200" spc="-1" strike="noStrike">
                <a:solidFill>
                  <a:srgbClr val="000000"/>
                </a:solidFill>
                <a:latin typeface="Times New Roman"/>
              </a:rPr>
              <a:t>-jazyku pomocí GS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5800" y="30481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505320" y="3048120"/>
            <a:ext cx="236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ustra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c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9480" y="3200400"/>
            <a:ext cx="35053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339933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cs-CZ" sz="3200" spc="-1" strike="noStrike" baseline="-25000">
                <a:solidFill>
                  <a:srgbClr val="339933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…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cs-CZ" sz="3200" spc="-1" strike="noStrike" baseline="-25000">
                <a:solidFill>
                  <a:srgbClr val="339933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09480" y="3886200"/>
            <a:ext cx="33530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cs-CZ" sz="32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09480" y="5410080"/>
            <a:ext cx="33530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i="1" lang="cs-CZ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5400000">
            <a:off x="1789560" y="4913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00200" y="3733920"/>
            <a:ext cx="914400" cy="380880"/>
          </a:xfrm>
          <a:prstGeom prst="downArrow">
            <a:avLst>
              <a:gd name="adj1" fmla="val 60620"/>
              <a:gd name="adj2" fmla="val 538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00200" y="4419720"/>
            <a:ext cx="914400" cy="380880"/>
          </a:xfrm>
          <a:prstGeom prst="downArrow">
            <a:avLst>
              <a:gd name="adj1" fmla="val 60620"/>
              <a:gd name="adj2" fmla="val 538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600200" y="5181480"/>
            <a:ext cx="914400" cy="381240"/>
          </a:xfrm>
          <a:prstGeom prst="downArrow">
            <a:avLst>
              <a:gd name="adj1" fmla="val 60620"/>
              <a:gd name="adj2" fmla="val 538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62120" y="5791320"/>
            <a:ext cx="2895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62120" y="6186600"/>
            <a:ext cx="3124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  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114800" y="4267080"/>
            <a:ext cx="4267080" cy="236232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086600" y="3352680"/>
            <a:ext cx="1295280" cy="5356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900" spc="-1" strike="noStrike">
                <a:solidFill>
                  <a:srgbClr val="000000"/>
                </a:solidFill>
                <a:latin typeface="Times New Roman"/>
              </a:rPr>
              <a:t>n-L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7620120" y="3886200"/>
            <a:ext cx="38088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572000" y="5257800"/>
            <a:ext cx="2895480" cy="648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…,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i="1" lang="cs-CZ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5400000">
            <a:off x="5797800" y="456300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rot="5400000">
            <a:off x="5797800" y="593460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352680" y="5257800"/>
            <a:ext cx="685800" cy="9144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Times New Roman"/>
              </a:rPr>
              <a:t>Generování jazyků pomocí GS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09480" y="10666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Standardní přístup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838080" y="16002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Výsledný jazyk tvoří řetězce generované </a:t>
            </a: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první gramatiko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09480" y="2895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33520" y="28954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Nový přístup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62120" y="342900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Výsledný jazyk je tvořen pomocí řetězců </a:t>
            </a: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všech gramatik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a operací nad nim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621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Příklady takovýchto operací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990720" y="457200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) Operace „sjednocení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523880" y="4952880"/>
            <a:ext cx="33530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i="1" lang="cs-CZ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257800" y="4952880"/>
            <a:ext cx="762120" cy="648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248520" y="4952880"/>
            <a:ext cx="761760" cy="648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772400" y="4952880"/>
            <a:ext cx="762120" cy="648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162920" y="4952880"/>
            <a:ext cx="5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343400" y="4952880"/>
            <a:ext cx="685800" cy="609840"/>
          </a:xfrm>
          <a:prstGeom prst="rightArrow">
            <a:avLst>
              <a:gd name="adj1" fmla="val 50000"/>
              <a:gd name="adj2" fmla="val 28114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56272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) Operace „konkatenace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257800" y="5943600"/>
            <a:ext cx="2209680" cy="648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…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i="1" lang="cs-CZ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523880" y="5943600"/>
            <a:ext cx="33530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i="1" lang="cs-CZ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343400" y="5943600"/>
            <a:ext cx="685800" cy="609480"/>
          </a:xfrm>
          <a:prstGeom prst="rightArrow">
            <a:avLst>
              <a:gd name="adj1" fmla="val 50000"/>
              <a:gd name="adj2" fmla="val 28131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447920" y="2133720"/>
            <a:ext cx="33526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i="1" lang="cs-CZ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181480" y="2133720"/>
            <a:ext cx="762120" cy="648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267080" y="2133720"/>
            <a:ext cx="685800" cy="609480"/>
          </a:xfrm>
          <a:prstGeom prst="rightArrow">
            <a:avLst>
              <a:gd name="adj1" fmla="val 50000"/>
              <a:gd name="adj2" fmla="val 28131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" name=""/>
          <p:cNvGrpSpPr/>
          <p:nvPr/>
        </p:nvGrpSpPr>
        <p:grpSpPr>
          <a:xfrm>
            <a:off x="4800600" y="2438280"/>
            <a:ext cx="4114800" cy="3979800"/>
            <a:chOff x="4800600" y="2438280"/>
            <a:chExt cx="4114800" cy="3979800"/>
          </a:xfrm>
        </p:grpSpPr>
        <p:sp>
          <p:nvSpPr>
            <p:cNvPr id="110" name=""/>
            <p:cNvSpPr/>
            <p:nvPr/>
          </p:nvSpPr>
          <p:spPr>
            <a:xfrm>
              <a:off x="4876920" y="4952880"/>
              <a:ext cx="3504960" cy="60984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76920" y="3733920"/>
              <a:ext cx="350496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876920" y="2438280"/>
              <a:ext cx="3504960" cy="60984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800600" y="5867280"/>
              <a:ext cx="4114800" cy="5508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Kontrola derivací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 flipV="1">
              <a:off x="8686800" y="2743200"/>
              <a:ext cx="0" cy="31240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 flipH="1">
              <a:off x="8381520" y="2743200"/>
              <a:ext cx="3049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flipH="1">
              <a:off x="8381520" y="4038480"/>
              <a:ext cx="3049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>
              <a:off x="8381520" y="5257800"/>
              <a:ext cx="3049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533520" y="1828800"/>
            <a:ext cx="4114800" cy="4589280"/>
            <a:chOff x="533520" y="1828800"/>
            <a:chExt cx="4114800" cy="4589280"/>
          </a:xfrm>
        </p:grpSpPr>
        <p:sp>
          <p:nvSpPr>
            <p:cNvPr id="119" name=""/>
            <p:cNvSpPr/>
            <p:nvPr/>
          </p:nvSpPr>
          <p:spPr>
            <a:xfrm>
              <a:off x="990720" y="4343400"/>
              <a:ext cx="350496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990720" y="3048120"/>
              <a:ext cx="350496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990720" y="1828800"/>
              <a:ext cx="350496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33520" y="5867280"/>
              <a:ext cx="4114800" cy="5508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Kontora multiforem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flipV="1">
              <a:off x="685800" y="2133360"/>
              <a:ext cx="0" cy="373356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85800" y="2133720"/>
              <a:ext cx="3049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85800" y="3352680"/>
              <a:ext cx="3049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85800" y="4648320"/>
              <a:ext cx="3049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Zavedení nových dvou typů 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09480" y="1066680"/>
            <a:ext cx="411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Kontrola symbolů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724280" y="1219320"/>
            <a:ext cx="0" cy="5333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724280" y="1066680"/>
            <a:ext cx="396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)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Kontrola pravi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1752480"/>
            <a:ext cx="350532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en-US" sz="36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cs-CZ" sz="36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i="1" lang="cs-CZ" sz="36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i="1" lang="en-US" sz="3600" spc="-1" strike="noStrike" baseline="-25000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5400000">
            <a:off x="1310400" y="24217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rot="5400000">
            <a:off x="2072520" y="24217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rot="5400000">
            <a:off x="3609000" y="242028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143000" y="2971800"/>
            <a:ext cx="33526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36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cs-CZ" sz="36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cs-CZ" sz="36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i="1" lang="en-US" sz="3600" spc="-1" strike="noStrike" baseline="-25000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rot="5400000">
            <a:off x="1310760" y="371736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rot="5400000">
            <a:off x="2072880" y="371736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rot="5400000">
            <a:off x="3608640" y="371556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143000" y="4267080"/>
            <a:ext cx="33526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lang="en-US" sz="36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lang="cs-CZ" sz="36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i="1" lang="cs-CZ" sz="36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i="1" lang="en-US" sz="3600" spc="-1" strike="noStrike" baseline="-25000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rot="5400000">
            <a:off x="1310400" y="49363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rot="5400000">
            <a:off x="2072520" y="49363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rot="5400000">
            <a:off x="3596400" y="49363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819520" y="22860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19520" y="36576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819520" y="487692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952880" y="1752480"/>
            <a:ext cx="350532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cs-CZ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3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3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rot="5400000">
            <a:off x="5196600" y="24217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rot="5400000">
            <a:off x="5958720" y="24217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5400000">
            <a:off x="7495200" y="242028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029200" y="2971800"/>
            <a:ext cx="33526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cs-CZ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cs-CZ" sz="3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3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rot="5400000">
            <a:off x="5196960" y="371736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rot="5400000">
            <a:off x="5959080" y="371736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7494840" y="371556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029200" y="4267080"/>
            <a:ext cx="33526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cs-CZ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i="1" lang="cs-CZ" sz="3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3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5196600" y="49363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rot="5400000">
            <a:off x="5958720" y="49363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rot="5400000">
            <a:off x="7482600" y="49363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705720" y="22860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705720" y="36576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705720" y="487692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286000" y="5105520"/>
            <a:ext cx="838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400800" y="5181480"/>
            <a:ext cx="838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Times New Roman"/>
              </a:rPr>
              <a:t>Nonterminálově synchronizovaný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G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85800" y="1219320"/>
            <a:ext cx="7772400" cy="25905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001000" cy="264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Defini</a:t>
            </a:r>
            <a:r>
              <a:rPr b="1" lang="cs-CZ" sz="2900" spc="-1" strike="noStrike">
                <a:solidFill>
                  <a:srgbClr val="000000"/>
                </a:solidFill>
                <a:latin typeface="Times New Roman"/>
              </a:rPr>
              <a:t>ce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n-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multigenerat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ivní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nonterminálově-synchronizovaný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grama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tický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 syst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é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n-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MG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je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– tice </a:t>
            </a:r>
            <a:r>
              <a:rPr b="1" lang="cs-CZ" sz="2900" spc="-1" strike="noStrike">
                <a:solidFill>
                  <a:srgbClr val="ff0000"/>
                </a:solidFill>
                <a:latin typeface="Symbol"/>
                <a:ea typeface="Symbol"/>
              </a:rPr>
              <a:t></a:t>
            </a:r>
            <a:r>
              <a:rPr b="1" lang="en-US" sz="2900" spc="-1" strike="noStrike">
                <a:solidFill>
                  <a:srgbClr val="ff0000"/>
                </a:solidFill>
                <a:latin typeface="Times New Roman"/>
              </a:rPr>
              <a:t> = (</a:t>
            </a:r>
            <a:r>
              <a:rPr b="1" i="1" lang="en-US" sz="29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1" lang="en-US" sz="29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29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1" i="1" lang="en-US" sz="29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1" lang="en-US" sz="29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2900" spc="-1" strike="noStrike">
                <a:solidFill>
                  <a:srgbClr val="ff0000"/>
                </a:solidFill>
                <a:latin typeface="Times New Roman"/>
              </a:rPr>
              <a:t>, … , </a:t>
            </a:r>
            <a:r>
              <a:rPr b="1" i="1" lang="en-US" sz="29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1" i="1" lang="en-US" sz="29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29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1" i="1" lang="en-US" sz="29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9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kde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9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9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9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9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9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je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CFG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pro všechna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= 1 …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je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konečná množina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-t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ic tvaru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…,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9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kde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9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9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pro všechna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= 1 …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85800" y="3886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09480" y="380988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Příkla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9480" y="4343400"/>
            <a:ext cx="8305920" cy="25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Symbol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{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})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kd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(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(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1" name=""/>
          <p:cNvGrpSpPr/>
          <p:nvPr/>
        </p:nvGrpSpPr>
        <p:grpSpPr>
          <a:xfrm>
            <a:off x="5638680" y="4724280"/>
            <a:ext cx="2210040" cy="977760"/>
            <a:chOff x="5638680" y="4724280"/>
            <a:chExt cx="2210040" cy="977760"/>
          </a:xfrm>
        </p:grpSpPr>
        <p:sp>
          <p:nvSpPr>
            <p:cNvPr id="172" name=""/>
            <p:cNvSpPr/>
            <p:nvPr/>
          </p:nvSpPr>
          <p:spPr>
            <a:xfrm>
              <a:off x="7391520" y="472428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638680" y="472428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4" name=""/>
            <p:cNvGrpSpPr/>
            <p:nvPr/>
          </p:nvGrpSpPr>
          <p:grpSpPr>
            <a:xfrm>
              <a:off x="6095520" y="5181120"/>
              <a:ext cx="1296000" cy="520920"/>
              <a:chOff x="6095520" y="5181120"/>
              <a:chExt cx="1296000" cy="520920"/>
            </a:xfrm>
          </p:grpSpPr>
          <p:sp>
            <p:nvSpPr>
              <p:cNvPr id="175" name=""/>
              <p:cNvSpPr/>
              <p:nvPr/>
            </p:nvSpPr>
            <p:spPr>
              <a:xfrm>
                <a:off x="6324480" y="5181480"/>
                <a:ext cx="838440" cy="52056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OK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 flipH="1" flipV="1">
                <a:off x="6095520" y="518112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flipV="1">
                <a:off x="7162920" y="518112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5638680" y="3581280"/>
            <a:ext cx="2210040" cy="977760"/>
            <a:chOff x="5638680" y="3581280"/>
            <a:chExt cx="2210040" cy="977760"/>
          </a:xfrm>
        </p:grpSpPr>
        <p:sp>
          <p:nvSpPr>
            <p:cNvPr id="179" name=""/>
            <p:cNvSpPr/>
            <p:nvPr/>
          </p:nvSpPr>
          <p:spPr>
            <a:xfrm>
              <a:off x="7391520" y="358128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638680" y="358128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1" name=""/>
            <p:cNvGrpSpPr/>
            <p:nvPr/>
          </p:nvGrpSpPr>
          <p:grpSpPr>
            <a:xfrm>
              <a:off x="6095520" y="4038120"/>
              <a:ext cx="1296000" cy="520920"/>
              <a:chOff x="6095520" y="4038120"/>
              <a:chExt cx="1296000" cy="520920"/>
            </a:xfrm>
          </p:grpSpPr>
          <p:sp>
            <p:nvSpPr>
              <p:cNvPr id="182" name=""/>
              <p:cNvSpPr/>
              <p:nvPr/>
            </p:nvSpPr>
            <p:spPr>
              <a:xfrm>
                <a:off x="6324480" y="4038480"/>
                <a:ext cx="838440" cy="52056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OK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 flipH="1" flipV="1">
                <a:off x="6095520" y="403812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flipV="1">
                <a:off x="7162920" y="403812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85" name=""/>
          <p:cNvGrpSpPr/>
          <p:nvPr/>
        </p:nvGrpSpPr>
        <p:grpSpPr>
          <a:xfrm>
            <a:off x="5638680" y="2438280"/>
            <a:ext cx="2210040" cy="977760"/>
            <a:chOff x="5638680" y="2438280"/>
            <a:chExt cx="2210040" cy="977760"/>
          </a:xfrm>
        </p:grpSpPr>
        <p:sp>
          <p:nvSpPr>
            <p:cNvPr id="186" name=""/>
            <p:cNvSpPr/>
            <p:nvPr/>
          </p:nvSpPr>
          <p:spPr>
            <a:xfrm>
              <a:off x="7391520" y="243828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638680" y="243828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8" name=""/>
            <p:cNvGrpSpPr/>
            <p:nvPr/>
          </p:nvGrpSpPr>
          <p:grpSpPr>
            <a:xfrm>
              <a:off x="6095520" y="2895120"/>
              <a:ext cx="1296000" cy="520920"/>
              <a:chOff x="6095520" y="2895120"/>
              <a:chExt cx="1296000" cy="520920"/>
            </a:xfrm>
          </p:grpSpPr>
          <p:sp>
            <p:nvSpPr>
              <p:cNvPr id="189" name=""/>
              <p:cNvSpPr/>
              <p:nvPr/>
            </p:nvSpPr>
            <p:spPr>
              <a:xfrm>
                <a:off x="6324480" y="2895480"/>
                <a:ext cx="838440" cy="52056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OK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 flipH="1" flipV="1">
                <a:off x="6095520" y="289512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 flipV="1">
                <a:off x="7162920" y="289512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92" name=""/>
          <p:cNvGrpSpPr/>
          <p:nvPr/>
        </p:nvGrpSpPr>
        <p:grpSpPr>
          <a:xfrm>
            <a:off x="5638680" y="1295280"/>
            <a:ext cx="2210040" cy="977760"/>
            <a:chOff x="5638680" y="1295280"/>
            <a:chExt cx="2210040" cy="977760"/>
          </a:xfrm>
        </p:grpSpPr>
        <p:sp>
          <p:nvSpPr>
            <p:cNvPr id="193" name=""/>
            <p:cNvSpPr/>
            <p:nvPr/>
          </p:nvSpPr>
          <p:spPr>
            <a:xfrm>
              <a:off x="7391520" y="129528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638680" y="129528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5" name=""/>
            <p:cNvGrpSpPr/>
            <p:nvPr/>
          </p:nvGrpSpPr>
          <p:grpSpPr>
            <a:xfrm>
              <a:off x="6095520" y="1752120"/>
              <a:ext cx="1296000" cy="520920"/>
              <a:chOff x="6095520" y="1752120"/>
              <a:chExt cx="1296000" cy="520920"/>
            </a:xfrm>
          </p:grpSpPr>
          <p:sp>
            <p:nvSpPr>
              <p:cNvPr id="196" name=""/>
              <p:cNvSpPr/>
              <p:nvPr/>
            </p:nvSpPr>
            <p:spPr>
              <a:xfrm>
                <a:off x="6324480" y="1752480"/>
                <a:ext cx="838440" cy="52056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OK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 flipH="1" flipV="1">
                <a:off x="6095520" y="175212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 flipV="1">
                <a:off x="7162920" y="175212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9" name="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85800" y="4038480"/>
            <a:ext cx="4191120" cy="2133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" y="1828800"/>
            <a:ext cx="4191120" cy="2133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85800" y="1219320"/>
            <a:ext cx="4191120" cy="5331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4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-M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GN: Example 1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85800" y="1143000"/>
            <a:ext cx="4419720" cy="62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= {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562720" y="1219320"/>
            <a:ext cx="25146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5334120" y="1828800"/>
            <a:ext cx="3200400" cy="1182240"/>
            <a:chOff x="5334120" y="1828800"/>
            <a:chExt cx="3200400" cy="1182240"/>
          </a:xfrm>
        </p:grpSpPr>
        <p:sp>
          <p:nvSpPr>
            <p:cNvPr id="207" name=""/>
            <p:cNvSpPr/>
            <p:nvPr/>
          </p:nvSpPr>
          <p:spPr>
            <a:xfrm rot="5400000">
              <a:off x="5654160" y="1812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 rot="5400000">
              <a:off x="7406280" y="1812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334120" y="2362320"/>
              <a:ext cx="32004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a </a:t>
              </a: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   </a:t>
              </a: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2 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5105520" y="2971800"/>
            <a:ext cx="3504960" cy="1182240"/>
            <a:chOff x="5105520" y="2971800"/>
            <a:chExt cx="3504960" cy="1182240"/>
          </a:xfrm>
        </p:grpSpPr>
        <p:sp>
          <p:nvSpPr>
            <p:cNvPr id="211" name=""/>
            <p:cNvSpPr/>
            <p:nvPr/>
          </p:nvSpPr>
          <p:spPr>
            <a:xfrm rot="5400000">
              <a:off x="5577480" y="2955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rot="5400000">
              <a:off x="7406280" y="2955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105520" y="3505320"/>
              <a:ext cx="35049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aa </a:t>
              </a: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      </a:t>
              </a: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2 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4" name=""/>
          <p:cNvGrpSpPr/>
          <p:nvPr/>
        </p:nvGrpSpPr>
        <p:grpSpPr>
          <a:xfrm>
            <a:off x="4876920" y="4114800"/>
            <a:ext cx="3504960" cy="1182240"/>
            <a:chOff x="4876920" y="4114800"/>
            <a:chExt cx="3504960" cy="1182240"/>
          </a:xfrm>
        </p:grpSpPr>
        <p:sp>
          <p:nvSpPr>
            <p:cNvPr id="215" name=""/>
            <p:cNvSpPr/>
            <p:nvPr/>
          </p:nvSpPr>
          <p:spPr>
            <a:xfrm rot="5400000">
              <a:off x="5577480" y="4098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 rot="5400000">
              <a:off x="7406280" y="4098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876920" y="4648320"/>
              <a:ext cx="35049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aab </a:t>
              </a: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1 </a:t>
              </a: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c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     </a:t>
              </a: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d </a:t>
              </a: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5181480" y="5257800"/>
            <a:ext cx="3505320" cy="1182240"/>
            <a:chOff x="5181480" y="5257800"/>
            <a:chExt cx="3505320" cy="1182240"/>
          </a:xfrm>
        </p:grpSpPr>
        <p:sp>
          <p:nvSpPr>
            <p:cNvPr id="219" name=""/>
            <p:cNvSpPr/>
            <p:nvPr/>
          </p:nvSpPr>
          <p:spPr>
            <a:xfrm rot="5400000">
              <a:off x="5577480" y="5241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rot="5400000">
              <a:off x="7406280" y="5241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181480" y="5791320"/>
              <a:ext cx="35053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aabbcc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     </a:t>
              </a: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dd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85800" y="4038480"/>
            <a:ext cx="4191120" cy="2133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85800" y="1828800"/>
            <a:ext cx="4191120" cy="2133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219320"/>
            <a:ext cx="4191120" cy="5331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4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GN: Example 2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85800" y="1143000"/>
            <a:ext cx="4419720" cy="62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= {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952880" y="1143000"/>
            <a:ext cx="3733920" cy="57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t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(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union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}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conc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lm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5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1:29:08Z</dcterms:created>
  <dc:creator>Roman Lukáš</dc:creator>
  <dc:description/>
  <dc:language>en-US</dc:language>
  <cp:lastModifiedBy>Roman Lukáš</cp:lastModifiedBy>
  <dcterms:modified xsi:type="dcterms:W3CDTF">2005-06-06T07:01:58Z</dcterms:modified>
  <cp:revision>193</cp:revision>
  <dc:subject/>
  <dc:title>Formal Languages and Compilers</dc:title>
</cp:coreProperties>
</file>